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322-B297-461A-8C03-89D4961B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98E-EEB2-4C6F-8D2C-94F5D946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9EF-3C45-42AD-9650-CDCF9998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262-E2CE-4D92-A868-54DD9AE0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6CA-30D4-4685-9D1B-41E078E4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ACA-D26D-4763-933D-0CBEF18F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643-ABCB-4219-A8E7-499D4B8C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8E6-E9DF-4579-832E-EF24C235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FDF-4566-4BDC-93EA-D40A5E29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04D-BC48-452B-9B90-182F8EF0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5E8-D87C-4974-BE2B-D8C96F58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299-CA05-406E-B753-A3A87527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3F8B0-A005-4D8A-B585-C2CD37CE13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33240" y="2127240"/>
            <a:ext cx="7828200" cy="157968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322280" y="3790800"/>
            <a:ext cx="649944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mamá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eyó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un libro buen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¿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yer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Uds. las noticia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icia y Roberto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eyer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que la tortilla española es sabros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cuerda…Para usar el pretérito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use the preterit to talk about events that were completed in the past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is a definite start and ending of the ac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arration of even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: What did you eat today?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: I ate a banan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5680080" y="3745080"/>
            <a:ext cx="2552760" cy="24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ular –ar verb ending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2354400"/>
          <a:ext cx="8229600" cy="377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7d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m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7dfeb"/>
                    </a:solidFill>
                  </a:tcPr>
                </a:tc>
              </a:tr>
              <a:tr h="12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ste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  <p:sp>
        <p:nvSpPr>
          <p:cNvPr id="48" name="TextBox 5"/>
          <p:cNvSpPr/>
          <p:nvPr/>
        </p:nvSpPr>
        <p:spPr>
          <a:xfrm>
            <a:off x="3330720" y="1765440"/>
            <a:ext cx="30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blar =         To tal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ular –er/-ir ending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¡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ena noticia! –er/-ir verbs share preterit ending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60480" y="2230560"/>
          <a:ext cx="6969240" cy="4151160"/>
        </p:xfrm>
        <a:graphic>
          <a:graphicData uri="http://schemas.openxmlformats.org/drawingml/2006/table">
            <a:tbl>
              <a:tblPr/>
              <a:tblGrid>
                <a:gridCol w="3546360"/>
                <a:gridCol w="3422880"/>
              </a:tblGrid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m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m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feb"/>
                    </a:solidFill>
                  </a:tcPr>
                </a:tc>
              </a:tr>
              <a:tr h="14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ste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ste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e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er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¡Ojo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ar and –er verbs that stem change in the present tense do NOT have a stem change in the preteri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ever, -ir verbs stem change in the preteri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ir verbs only change in the s.p.o.t. and p.p.o.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áctica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ta mañana, yo ________ (comer) yogur y _________ (beber) café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yer, mis padres me _________ (escribir) un correo electróni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oche mis amigos y yo _______ (salir) para la fiesta a las ocho y medi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¿ _________ (aprender) tú las formas del pretérito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puestas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ta mañana, 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í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gur y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bí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afé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yer, mis padres me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scribier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un correo electróni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oche mis amigos y 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limo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ara la fiesta a las ocho y medi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¿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prendist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ú las formas del pretérito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a cosa más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bs with a stem that end in a VOWEL, have a spelling chang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the í to a 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only occurs in the S.P.O.T. and P.P.O.T. fo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range things happen in the basement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áctica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mamá ______________ (leer) un libro buen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¿_____________ (oír) Uds. las noticia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icia y Roberto ____________ (creer) que la tortilla española es sabros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4:20:43Z</dcterms:created>
  <dc:creator>localadmin</dc:creator>
  <dc:description/>
  <dc:language>en-US</dc:language>
  <cp:lastModifiedBy>Prine, Stephanie</cp:lastModifiedBy>
  <dcterms:modified xsi:type="dcterms:W3CDTF">2012-12-17T13:42:17Z</dcterms:modified>
  <cp:revision>9</cp:revision>
  <dc:subject/>
  <dc:title>El pretérito</dc:title>
</cp:coreProperties>
</file>